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FEB4-2672-45F0-8FE4-E499DB89B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0B42-6333-4D04-8220-777D74019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6B8D-4161-47F8-82F9-56AE84330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323E-030C-4381-A868-43FE222EC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7732-8060-48CC-AA38-C469F2406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1079-0C75-496C-BFC4-A5F74FA0C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E500-E185-41D7-9333-095FAAD50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9B78-B752-4B77-907C-12C136DB1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2F70-E47F-4F21-A4C6-9332A5649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1A59-183E-4445-B25A-788DAC908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7339-389E-4B49-9007-CEB7A09F6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BCFC-2A0C-4503-B5D9-EA5FBB860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A435-70C7-4885-816B-9286B51CA5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youtu.be/PRIlnUAKwDY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7F40-746F-4E22-866F-AA24E9BB2F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7720" y="2742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Proportional Reasoning -Aug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Responding to Students Work wit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onsolid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notice about the studen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providing feedback what was discussed at your 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you decide on the criteria you were going to use to giv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ive me an example of feedback provided that you feel is very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did you already know about the math or about the feedbac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hadn’t you thought o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are your next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st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are the similarities/differences regarding feedback in the moment vs over ti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90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89000"/>
          </a:bodyPr>
          <a:p>
            <a:pPr lvl="3" marL="1424160" indent="-203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focus on understanding the multiplicative relations to compare and predict as well as unitizing concepts in 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explore and consider guidelines when providing effective feedback for the purpose of moving students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 understand the relationship between learning goals and effec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12F9-D251-476B-A75D-2888BF9E41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82CD-1C86-4535-B107-01FDD97C41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ing Effective Feedback 3 –Unhelpful and Helpful feed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outu.be/PRIlnUAKw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le Group Discu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inds 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nk back in life when you were given feedb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did it look like? Sound like? Feel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as it effective or no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you remember what type of impact it had on you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d it help you move forward in your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My Feedback Practic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1241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ive One Take On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a feedback strategy that you used and found eff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edback strategy you like and add it to your reper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nother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eedback Research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ead of the Curve by Anne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ive Effective Feedback to your Students by Susan M. Brook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roportional Reasoning: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 Proble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Cookie Problem 7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 boxes of cookies cost $10.  How much should18 boxes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99"/>
                </a:solidFill>
                <a:latin typeface="Arial"/>
              </a:rPr>
              <a:t>Keepin’ Ta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 student council collects aluminum pop tabs to raise money to purchase a wheelchair.  A company buys the pop tabs for $0.88 per kil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f 1267 pop tabs have a mass of one pound, how many pop tabs are needed to purchase a wheelchair worth $15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how your work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nt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 kilogram = 2.2 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different samples and compare students’ Proportional Reasoning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Paul Alves</cp:lastModifiedBy>
  <dcterms:modified xsi:type="dcterms:W3CDTF">2011-08-16T21:13:32Z</dcterms:modified>
  <cp:revision>19</cp:revision>
  <dc:subject/>
  <dc:title>&lt;Title&gt;</dc:title>
</cp:coreProperties>
</file>